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40B-7C69-4026-94DE-DED546C3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583-5564-41A5-83D1-E8416A08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372-EB42-494B-9F27-139113D2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22B-C549-42EB-9626-357A0A79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A6E3-FE41-400A-9FC7-73D4C8F6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A8F1-1B07-4164-943A-7DB3C247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050E-B0EC-43AD-B431-9CB38002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1C24-6414-4601-93C1-AB2AFFF3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409A-6AA9-4EB2-9AC0-36CFA25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72BD-0950-4080-BDB6-256AB2F3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A6AE-97A7-4864-97FF-DD3C686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7BC-2056-4CCB-8EF1-BFF7056B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AF3E-B855-4EF6-A5FE-7EE09EDF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5E3A-24BD-4B5E-B6E6-666FDFB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123B-3493-4880-8C20-25C5459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2310-641E-48AC-B57F-8B36DC79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F70A-EE27-4577-8C55-24BB13BE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174-5C3A-4685-84BC-E2C0886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1ED-AFA2-4807-A9F4-658EE9EA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8A1-05EF-4178-8738-961F1118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ACC-533C-4903-AB02-490D094D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3B1-7FD8-45B3-8126-ACC8C292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5A4-BB81-4996-B6BD-E753A3D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742-A2FC-47DC-A086-74F9DAF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EB4D-6686-492E-B0FF-9F3B6AF6D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51BE-00C1-4618-9AEC-561592A3527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700" spc="-1" strike="noStrike">
                <a:solidFill>
                  <a:srgbClr val="ffffcc"/>
                </a:solidFill>
                <a:latin typeface="Arial"/>
              </a:rPr>
              <a:t>Превенција-ниво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Акт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(подразумева промене понаша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Коришћењ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штитних средстава на ра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Примена вакцина у превенцији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не захтева промену понашања, једноставнији за спровођење)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флуоризација во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додавање витамина појединим намирницам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нижење инциденције болести контролом узрочних фактора (фактора ризик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имарна превенција зависи од промена у понашању већин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Роузова “теорема”- изложеност великог броја људи малом ризику може довести до много више оболелих него изложеност малог броја људи високом ризик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Стратегије примарног нивоа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опулацио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Индивидуал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едност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3270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појединац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груп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cc"/>
                </a:solidFill>
                <a:uFillTx/>
                <a:latin typeface="Arial"/>
              </a:rPr>
              <a:t>Недостатак</a:t>
            </a: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 мора да буде од велике користи појединцу, с обзиром на низак степен његовог индивидуалног риз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вентивни парадокс 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ка превентивна мера доноси велику корист популацији, не мора истовремено да користи сваком њеном појединачном члан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екундарна превенција и 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Рано откривање болести и адекватна терап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Циљ: заустављање напредовања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Време примене: фаза патогенезе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Ефикаснија код обољења која у природној историји имају период који се лако открива и ле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Спречава прогресију обољења у озбиљне стадијуме у којима су терапијске могућности мал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Услови који треба да буду испуњени да би секундарна превенција била ефикас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игуран и безбедан метод откривања болести (ако је могуће у преклиничкој фаз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Ефикасан метод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Терцијарна превенција-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: смањење неспособ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имена епидемиолошких истраживања у области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зналажење могућности за ефикасну интервенцију у појединим 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Arial"/>
              </a:rPr>
              <a:t>фазама природног тока болест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развој болести од почетних фаза до исход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Опоравак, неспособност, смртни исх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икупљање информација које имају за циљ сагледавање учесталости и дистрибуције болести и здравља у популациј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снован 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индивидуал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пулацио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мбинацији оба (са етичког аспекта најприхватљивиј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нтинуирани проце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утиче на предлагање нових мера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утински подаци здравствене статисти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азличити типови епидемиолошких студиј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требна због процене њихове оправданост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дразумева однос уложених средстава и очекиваног ефекта на здравствено стањ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Нивои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6705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ордијал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Секунд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Терцијарн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тходи или се поклапа са примарним нивоом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оследица је пораста укупног знања у области изучавања етиологије не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пречити да се у некој популацији успоставе обрасци понашања у социјалној, економској и културној сфери живота који доводе до повећања ризика од појаве поједи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Arial"/>
              </a:rPr>
              <a:t>Примар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едуз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умева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низ мера и поступака у периоду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-смањење могућности за појаву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Здравствено васпитање о штетности појединих факт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дувана (фактор ризика за малигне туморе, КВБ, респираторна обоље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прекомерне употребе алкохо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значају коришћења неких намирница (воће и поврће) које имају заштитну улогу у етиологији неких обољењ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вакцинама против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Акт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1:03:3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