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BF4-9FB6-49DA-8167-52268705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FCF-584F-4B17-A775-382A0FF7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87F-4FD4-4BC0-AEE6-4C0E1960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128-80BF-4430-A781-5475266A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FE81-24FF-48F0-8945-89C76A36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D824-5B58-4E15-93D4-46241304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D820-A31C-4B3E-B1A9-F5649F8A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682F-9825-4A1B-833B-924E90AA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6247-79A1-4907-97B1-3C8A023F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F8DD-2908-4B1A-ABAB-DCB11F25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2FFC-AB58-4FD2-A738-08342765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14E-A24A-4164-8DCC-7E230885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E8DC-2DF7-4BFE-960E-9E2FA05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8218-186F-4E22-9D3F-343EC20D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4C6B-FB7F-4E65-98B8-CCE46C75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B7C6-BF7B-4D01-B559-9EE6AC25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F640-0052-43BE-89EB-6E99ADE2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F74-9C7A-4DC1-A0EC-DE720AE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CE4-1800-440A-9C02-54DF3536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446-4DAF-4E86-8F17-99DC4988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08C-BE28-48F0-996D-D2716EDF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C9D-3D7B-44CC-90B0-245B358E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ECD-A0A1-4EB4-8794-BC7C753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2BE-63F5-4177-9D2A-6AE9102C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86BF-8E54-4CDD-A58E-550D95369F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D3B9-3DF9-4297-A309-FB87AED5C3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Превенција поремећаја здрављ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Мере примарне превенције усмерене 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шту популацију (потреба за физичком активношћу која одговара узрасту)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им њеним сегментима (вакцинација одојчади или заштита деце школског узрас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за што раније откривање већ насталих поремећаја здравља (откривање особа са већ узнапредовалом болешћу који су измакли пажњи здравствене служб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: успостављање нарушеног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нижавање преваленције одговарајуће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олели (жртве болести) тј. повређене осо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рининг, самопреглед, систематски  прегле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секундарне превенције се прелиминар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двајају особе за које постоји сумња да су оболеле (дефинитивна дијагноза је у домену клиничке медицин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толошки процес је већ одмака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о излечење више није могу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Мере терцијарне превенције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719360"/>
            <a:ext cx="7924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оштећења и неспособности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рехабилитације и навикавање пацијента на настало ст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нижава се учесталост компликација и умир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жртв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довни контролни прегле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хабилитација (физичка и психич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да проте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ремећаји здравља од којих се данас највише оболева и умир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рди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еребр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алигне неоплаз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рауматиз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структивна болест плу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Личне навике и начин живота које утичу на учесталост најчешћих поремеђаја здрављ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ше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храна богата мастима животињског поре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еран унос алкохо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суство физичке а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изична вож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ронични стр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учне основе, дилеме и ограничења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пидемиолошка истраживања (интервентне или опсервационе студије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снов за одлучивање о избору превентивн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знања о факторима ризика за настанак најважнијих поремећаја здравља (болести срца и крв. судова, малигне неиоплазм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ктивности и мере везане 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напређе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чува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спостављање здравља које је наруше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пречавање или одлагање неповољног тока и исхода иреверзибилних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ратегија превентивног ра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гменти (у оперативном погледу) превентивне дела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. сагледавање епидемиолошке ситу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2. интер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евалуација ефикасности интервенциј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Сагледавање епидемиолошке ситуације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ид у стање и динамику расподеле болести и здравља у попула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е системом епидемиолошког надз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лив поузданих информација важ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уга традиција праћења заразних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ложеност макро и микро срединским ризици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пажње само на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ајугроженије сегмент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опулациј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даје ефек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нат оболевања је највећи у групи особа најизложенијих одређеном штетном фактори, али је учешће те групе у структури те популације ма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јвећи број оболелих се региструје из категорије грађана који имају 5 х нижи ризик али којих је 20 х ви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и редовно лечење свих хипертоничар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→инциденција апоплексије би се смањила за 1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росечно снижење хипертензије за 5 % → инциденција апоплексије опада за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553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315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Борба против поремећаја здравља пре њиховог клиничког испоља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тивна медиц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 се на поступке који су у опсегу здравствене сл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емиопрофилак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блем клицоно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болести скринин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штита вулнерабилних група становни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Јавно здравство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евентивна делатност која је у надлежности целе друштвене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ивање микробиолошки и хемијски исправне воде за пи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езбедан систем одвођења и третирања отпадних во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игијенско уклањање сме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рба против аерозагађења и бу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ола производње, ускладиштења и промета животних намир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ржавање екосистема у стању равноте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ивои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рциј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пори да се у одређену средину уопште не унесе штетна навика, обичај или облик понаш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ходи превен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група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оизашла из епидемиолошких сазнања 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исокој учесталости КВБ у деловима света где исхрана садржи много масти животињског порекла (Финс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иској учесталости КВБ у подручјима где су засићене масти мање заступљене у исхрани (Јапан-чест висок притисак и други фактори ризика за КВ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упци који се предузимају пре појаве болести и повреда како до њих уопште не би дош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ктивности усмерене ка унапређењу и очувању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примарне превенције снижава се инцид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0:53:40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